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applause.wav" ContentType="audio/x-wav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D2F-AD4E-4DE4-AE59-B9DBBA6D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128840"/>
            <a:ext cx="90597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7236-F569-4B43-A03B-1D28294F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12884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12884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7C5-E5C1-4AAE-9584-B93C88A2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128840"/>
            <a:ext cx="291708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128840"/>
            <a:ext cx="291708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128840"/>
            <a:ext cx="291708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D7EB-BA38-4CE2-A392-D5B5AF75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C15F-EF51-4774-9602-E55DDCAD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94C4-4347-42F2-9941-8A80A2B0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A573-6DF2-40A1-BC99-16265BF0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8280-38F5-4097-82E8-FE876F97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1276-5705-4BA9-B33D-F3214B9C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36240"/>
            <a:ext cx="90597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7741-2157-48EF-B82A-35ED777A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12884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A4E9-3469-42D9-B3E1-727F99E2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40B-6527-4585-B3D5-EB4C37DD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5480" y="412884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CA42-F354-4A31-94AF-4AADE543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128840"/>
            <a:ext cx="90597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A1ED-4D4B-441D-96CD-03225A4F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128840"/>
            <a:ext cx="90597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A001-6779-41D7-B7F5-2E8F5ADD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12884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5480" y="412884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A527-E9BE-4E38-AEEE-A5AF2805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128840"/>
            <a:ext cx="291708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6520" y="4128840"/>
            <a:ext cx="291708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9760" y="4128840"/>
            <a:ext cx="291708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2F65-E531-4399-8038-1D48ACD5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28D6-76D5-4707-B743-73CAAD5E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65AD-FD1F-40EB-92E8-74EB566A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7DF2-8535-4ABA-A239-024DA84F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36240"/>
            <a:ext cx="90597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4FB3-B69D-44E3-B7EB-F081AC88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12884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AF49-B1C1-475C-AC3D-ED2A9F6F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12884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0497-25BE-4451-90B6-94BAA61F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128840"/>
            <a:ext cx="90597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6E91-634D-44E7-820B-AFFE298C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7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F61BA-A31F-42BA-BEA7-4987CA9F98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670440"/>
            <a:ext cx="233676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670440"/>
            <a:ext cx="318456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670440"/>
            <a:ext cx="233712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0FD38-FDEF-417B-A732-AFA5594476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286000" y="457200"/>
            <a:ext cx="779472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The true story of Benjamin Franklin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828800" y="5057640"/>
            <a:ext cx="731520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300dc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Created by: Adajja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2300dc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029200" y="2057400"/>
            <a:ext cx="4572000" cy="2971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457200" y="2057400"/>
            <a:ext cx="45720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28600" y="228600"/>
            <a:ext cx="9372600" cy="228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8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And a special to the NEW BOOK OF KNOWLEDGE YEAH 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8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685800"/>
            <a:ext cx="979956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jamin Franklin was born in Boston on January 17,1706,  15</a:t>
            </a:r>
            <a:r>
              <a:rPr b="1" lang="en-US" sz="32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the 17 children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siah Franklin a poor respected candle mak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only went to school for 2 years. He later wro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amous quote well to me. “I acquired 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ing pretty soon but I failed in the arithmetic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ten years old I was taken home to assist my fa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e business.”  Benjamin ran away from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ran away to  Philadelphia,Pennsylvania and met a man from a printing shop. So Ben chose to work at the printing shop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3886200"/>
            <a:ext cx="93726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34290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4572000"/>
            <a:ext cx="685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971800"/>
            <a:ext cx="10508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 w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365760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5029200"/>
            <a:ext cx="928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4572000"/>
            <a:ext cx="191304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 went to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only be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36576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4343400"/>
            <a:ext cx="280512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 h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ice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leave school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his father in his 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andle 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49880" y="3200400"/>
            <a:ext cx="685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43800" y="36576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3200400"/>
            <a:ext cx="685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4343400"/>
            <a:ext cx="2224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Ben w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lve he wo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printing cen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3886200"/>
            <a:ext cx="93726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65760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4456080"/>
            <a:ext cx="685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365760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36576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36576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12680"/>
            <a:ext cx="251460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 wrote hi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icle for his bother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spaper. His brother's newspaper was called New England Courrant. At this time Benjamin ran away from home. And met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 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200400"/>
            <a:ext cx="685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572000"/>
            <a:ext cx="443700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ja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nklin ope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 his on prin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p. In Philadelphia,Pennsylv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cours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4319640"/>
            <a:ext cx="685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514600"/>
            <a:ext cx="19065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r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orah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62720" y="3313080"/>
            <a:ext cx="685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4114800"/>
            <a:ext cx="276084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ja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nklin wrote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sh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ICKER'S AL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contained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ender,wea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cast,for the ye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ems, and sayin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3000" y="685800"/>
            <a:ext cx="2367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urna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60020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2057400"/>
            <a:ext cx="70261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day I start school yeah. And guess what I'm onl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 years old. That means I'm a big boy to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200400"/>
            <a:ext cx="914400" cy="914400"/>
          </a:xfrm>
          <a:prstGeom prst="sun">
            <a:avLst>
              <a:gd name="adj" fmla="val 25000"/>
            </a:avLst>
          </a:prstGeom>
          <a:solidFill>
            <a:srgbClr val="2323d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3411360"/>
            <a:ext cx="84121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day I'm feeling the blues I had to quit school to help m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d in his candle shop today. Yeah I guess well I better p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tention to what I'm doing before my and get candle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if they do you better not use them for your birthday!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4800600"/>
            <a:ext cx="914400" cy="914400"/>
          </a:xfrm>
          <a:prstGeom prst="sun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5249880"/>
            <a:ext cx="820116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day is the day. Today I will leave and and actually bec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man and make my own decisions and I will do this b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ning aw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457200"/>
            <a:ext cx="1600200" cy="1371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914400"/>
            <a:ext cx="716760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knew it I knew. Guess what I found I very k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 in Philadelphia,Pennsylvania and he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printing factory but that's not the best p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inspired me to make my own printing sh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ere comes the best part I 'M MARRIED!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!!!!!!!!!!!!!!!!!!!!!!!!!!! YEAH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914400"/>
            <a:ext cx="3429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pl.org/div/kidspac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8520" y="1482840"/>
            <a:ext cx="5087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2.lhric.org/pocantico/franklin/1706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2:17:08Z</dcterms:created>
  <dc:creator/>
  <dc:description/>
  <dc:language>en-US</dc:language>
  <cp:lastModifiedBy/>
  <cp:revision>1</cp:revision>
  <dc:subject/>
  <dc:title/>
</cp:coreProperties>
</file>